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E50-8C0A-46EA-AE09-AA0DA3A6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063-A7E0-45B2-AD46-1B9FB2DC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881-8EDF-4391-ACBC-333088DA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FE7-1F94-4EFD-9B6D-8B374AFC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7F3-2DA4-4C91-9A37-4BF2A1EE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A4B-FEED-4C01-A781-6BDD4F0B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8B9-FFEA-4B40-89CC-18836F7F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98D-8049-4D03-AD33-2572D1EC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6AF-4E08-41F0-869C-C5D68415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68A-D9B7-46B4-B2EB-B4BCA117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F32-F2A6-4DAF-BE23-E22162B5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710-393A-45F3-BDEB-A02B0C35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0ED4-B60E-46C8-9666-5A318D5111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440" y="266760"/>
            <a:ext cx="5977080" cy="590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82440" rIns="82440" tIns="41040" bIns="4104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FOTOLINGU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28760" y="1000080"/>
            <a:ext cx="6072120" cy="77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OBIETTIV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Favorire e sollecitare l’alunno ad Esprimere i propri lati   posit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Favorire la conoscenza e l’affiatamento tra tutti i membri del   gru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Bookman Old Style"/>
              </a:rPr>
              <a:t>T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Bookman Old Styl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25 minu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Bookman Old Styl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Bookman Old Style"/>
              </a:rPr>
              <a:t>Mater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Bookman Old Styl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150 immagini cir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Bookman Old Styl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Schede relative all’attività, una per ogni partecip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Bookman Old Styl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una biro per ogni partecipante, che ciascuno si procura dal suo ast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ETOD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Bookman Old Styl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lavoro pers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Bookman Old Style"/>
              <a:buChar char="•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comunicazione in gru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ODALIT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Il conduttore dispone le 150 fotografie a terra, al centro del cerchio formato dai ragazzi. Quindi spiega che ognuno dovrà sceglierne una che esprime una caratteristica positiva del proprio carattere oppure che evoca un ricordo piacevo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A mano a mano che i partecipanti scelgono l’immagine, il conduttore consegna la scheda che verrà compilata individualmente. I ragazzi possono disporsi come vogliono, scegliendo un luogo nel quale possono lavorare in tutta tranquill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Quando tutti hanno terminato, il conduttore invita a riformare il cerchio. Quindi, secondo un ordine stabilito dal conduttore, tutti, a turno, mostrano la loro immagine e chi vuole può leggere ciò che ha scritto sulla sua sche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Tutti ripongono la scheda nella cartellina e riconsegnano l’immagine al condutto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ente</dc:creator>
  <dc:description/>
  <dc:language>en-US</dc:language>
  <cp:lastModifiedBy>utente</cp:lastModifiedBy>
  <dcterms:modified xsi:type="dcterms:W3CDTF">2017-03-11T07:27:54Z</dcterms:modified>
  <cp:revision>9</cp:revision>
  <dc:subject/>
  <dc:title>PowerPoint Presentation</dc:title>
</cp:coreProperties>
</file>